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BD8-A0AC-4034-B85D-2B9AAEB5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77C-E894-4A5A-8A6C-D9F6782D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0A4-8F42-408A-A6D1-1F1D8155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7F9-F7FF-407A-A24E-8D5E72F9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7A7-78F4-41BA-A5DA-9B86D6C3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B11-A998-4B31-9AAE-667CBC6B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CC5-492D-450D-A14D-4BDC3E97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BA2-BF55-439B-AD01-67FD02D7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CE0-BAF5-49BE-A033-1388F7CE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687-4585-4743-9B4D-7FC28DEB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9D3-501A-4977-8FBC-7CB13724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5F5-DD87-49C3-8E02-9E80CF4F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7150-5FCD-4222-B3A4-DAA7BEBAC96B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1620720"/>
            <a:ext cx="4149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Data provider 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M.S. D.Pr. appl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og-ou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42100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40417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299556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4520" y="408312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4520" y="2498760"/>
            <a:ext cx="410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cted ship call (pre-arriva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4520" y="3075120"/>
            <a:ext cx="3060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arriv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517920"/>
            <a:ext cx="5832360" cy="395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4520" y="3578400"/>
            <a:ext cx="60548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MAT notification prior to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54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560" y="2421000"/>
            <a:ext cx="1738440" cy="2160360"/>
            <a:chOff x="601560" y="2421000"/>
            <a:chExt cx="1738440" cy="2160360"/>
          </a:xfrm>
        </p:grpSpPr>
        <p:sp>
          <p:nvSpPr>
            <p:cNvPr id="58" name=""/>
            <p:cNvSpPr/>
            <p:nvPr/>
          </p:nvSpPr>
          <p:spPr>
            <a:xfrm>
              <a:off x="601560" y="2421000"/>
              <a:ext cx="1738440" cy="2160360"/>
            </a:xfrm>
            <a:prstGeom prst="flowChartAlternateProcess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560" y="2971800"/>
              <a:ext cx="17384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Verdana"/>
                </a:rPr>
                <a:t>Send/ update notification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560" y="1620720"/>
            <a:ext cx="6238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Notify/ Update Hazmat (EU loading port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application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 Notify / Update Hazmat declaration for ships expected to depa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2995560"/>
            <a:ext cx="414000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203640" y="2421000"/>
            <a:ext cx="4140000" cy="397080"/>
            <a:chOff x="3203640" y="2421000"/>
            <a:chExt cx="4140000" cy="397080"/>
          </a:xfrm>
        </p:grpSpPr>
        <p:sp>
          <p:nvSpPr>
            <p:cNvPr id="66" name=""/>
            <p:cNvSpPr/>
            <p:nvPr/>
          </p:nvSpPr>
          <p:spPr>
            <a:xfrm>
              <a:off x="3203640" y="2421000"/>
              <a:ext cx="4140000" cy="395280"/>
            </a:xfrm>
            <a:prstGeom prst="flowChartAlternateProcess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3640" y="2541600"/>
              <a:ext cx="36367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tep 1: Select vess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203640" y="3116160"/>
            <a:ext cx="44640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ep 2: Insert/ Update Haz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70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74760" y="1498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560" y="1620720"/>
            <a:ext cx="301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Select Vess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108900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 application&gt; Notify / Update Hazmat declaration for ships expected to depart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&gt; Step 1: Select Vesse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8040" y="204480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O Number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2680" y="20271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MSI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44720" y="20606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3280" y="203832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78040" y="23083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ll Sig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22892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ip Name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4720" y="232416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3280" y="23018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95760" y="26100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1720" y="2308320"/>
            <a:ext cx="50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CA*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88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50800" y="3508200"/>
            <a:ext cx="7966080" cy="1608480"/>
            <a:chOff x="550800" y="3508200"/>
            <a:chExt cx="7966080" cy="1608480"/>
          </a:xfrm>
        </p:grpSpPr>
        <p:sp>
          <p:nvSpPr>
            <p:cNvPr id="93" name=""/>
            <p:cNvSpPr/>
            <p:nvPr/>
          </p:nvSpPr>
          <p:spPr>
            <a:xfrm>
              <a:off x="550800" y="3508200"/>
              <a:ext cx="160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Name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52800" y="3508200"/>
              <a:ext cx="8222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IMO Numbe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3508200"/>
              <a:ext cx="954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MMSI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46680" y="3508200"/>
              <a:ext cx="79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Call Sig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38680" y="3508200"/>
              <a:ext cx="927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Las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65680" y="3508200"/>
              <a:ext cx="9082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ET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73960" y="3508200"/>
              <a:ext cx="97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45600" y="3508200"/>
              <a:ext cx="9586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0800" y="3904920"/>
              <a:ext cx="16020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O  </a:t>
              </a:r>
              <a:r>
                <a:rPr b="1" lang="en-US" sz="1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52800" y="390492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03884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7120" y="390492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5226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46680" y="390492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FGV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38680" y="390492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/3/2007 16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65680" y="390492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/7/2009 15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73960" y="390492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45600" y="3904920"/>
              <a:ext cx="9712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0800" y="431136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PALACE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52800" y="431136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481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67120" y="431136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3951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46680" y="431136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WEW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38680" y="431136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/2/2006 15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65680" y="431136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1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73960" y="431136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2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45600" y="4311360"/>
              <a:ext cx="971280" cy="70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0800" y="471780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 III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9840" y="4717800"/>
              <a:ext cx="8226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541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54520" y="4717800"/>
              <a:ext cx="9792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12335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33720" y="4717800"/>
              <a:ext cx="79236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3WM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6080" y="471780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/7/2008 18:2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3080" y="471780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7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61000" y="471780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8: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32640" y="471780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01560" y="573408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Verdana"/>
              </a:rPr>
              <a:t>3 vessels found, displaying 3 ite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43080" y="1363680"/>
            <a:ext cx="836424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560" y="1620720"/>
            <a:ext cx="692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Hazmat information </a:t>
            </a:r>
            <a:r>
              <a:rPr b="1" lang="en-US" sz="1200" spc="-1" strike="noStrike">
                <a:solidFill>
                  <a:srgbClr val="0099ff"/>
                </a:solidFill>
                <a:latin typeface="Verdana"/>
              </a:rPr>
              <a:t>(EU loading por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7440" y="1089000"/>
            <a:ext cx="87692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b2b2b2"/>
                </a:solidFill>
                <a:latin typeface="Verdana"/>
              </a:rPr>
              <a:t>&gt;M.S D.Pr. application&gt; Notify / Update Hazmat declaration for ships expected to depart&gt;</a:t>
            </a:r>
            <a:r>
              <a:rPr b="1" lang="en-GB" sz="900" spc="-1" strike="noStrike">
                <a:solidFill>
                  <a:srgbClr val="ff9933"/>
                </a:solidFill>
                <a:latin typeface="Verdana"/>
              </a:rPr>
              <a:t> Step2: Insert/update HAZMAT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43520" y="2022480"/>
            <a:ext cx="9144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 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038320"/>
            <a:ext cx="249876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86040" y="2612880"/>
            <a:ext cx="8143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HKHK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86040" y="2828880"/>
            <a:ext cx="12873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0/5/2009 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5280" y="2876400"/>
            <a:ext cx="151452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35280" y="2637000"/>
            <a:ext cx="15145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2/6/2009 15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2894040"/>
            <a:ext cx="1514520" cy="231120"/>
          </a:xfrm>
          <a:prstGeom prst="rect">
            <a:avLst/>
          </a:prstGeom>
          <a:solidFill>
            <a:srgbClr val="ffcc00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7/6/2009 19: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32720" y="2638440"/>
            <a:ext cx="669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96000" y="2637000"/>
            <a:ext cx="706680" cy="231120"/>
          </a:xfrm>
          <a:prstGeom prst="rect">
            <a:avLst/>
          </a:prstGeom>
          <a:solidFill>
            <a:srgbClr val="ffcc00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H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97800" y="2876400"/>
            <a:ext cx="14526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97800" y="2878200"/>
            <a:ext cx="1452600" cy="231120"/>
          </a:xfrm>
          <a:prstGeom prst="rect">
            <a:avLst/>
          </a:prstGeom>
          <a:solidFill>
            <a:srgbClr val="ffcc00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4/6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2038320"/>
            <a:ext cx="24987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365640"/>
            <a:ext cx="7661160" cy="29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8960" y="4422600"/>
            <a:ext cx="1601640" cy="70308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lassification of dangerous goods per IMO (multiple entry possible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3868560"/>
            <a:ext cx="1589040" cy="398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Hazmat in board?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4840" y="43624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D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74840" y="385920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6320" y="3416400"/>
            <a:ext cx="65818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expected to depart or departing ships carrying Hazmat 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5640" y="642456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88200" y="3416400"/>
            <a:ext cx="517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01000" y="642456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732640"/>
            <a:ext cx="28101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 (upon departur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62200" y="5722920"/>
            <a:ext cx="6732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64160" y="34164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74840" y="46162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74840" y="48704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74840" y="512460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4840" y="537372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56000" y="3716280"/>
            <a:ext cx="3605400" cy="19461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65800" y="5124600"/>
            <a:ext cx="3419280" cy="45216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5180040"/>
            <a:ext cx="341964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2):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Provide URL  of cargo manifest or the contact details of the Cargo Manifest provide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21160" y="3800520"/>
            <a:ext cx="3463920" cy="121284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25920" y="4044960"/>
            <a:ext cx="3264120" cy="50472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25920" y="4000680"/>
            <a:ext cx="3187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a. Provide URL of the HAZMAT declaration document 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Verdana"/>
              </a:rPr>
              <a:t>o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contact details of the data provider of Hazmat declaration detai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41760" y="4616280"/>
            <a:ext cx="3264120" cy="24480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4616280"/>
            <a:ext cx="3187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b. Provide Hazmat declaration detai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79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535640" y="3800520"/>
            <a:ext cx="36367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1):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[Choice (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(1a) or (1b)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)]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184" name="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US III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389560" y="6416640"/>
            <a:ext cx="85104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73000" y="6402240"/>
            <a:ext cx="2802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74840" y="4362480"/>
            <a:ext cx="1960560" cy="129996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4-15T16:57:24Z</dcterms:modified>
  <cp:revision>381</cp:revision>
  <dc:subject/>
  <dc:title>Slide 1</dc:title>
</cp:coreProperties>
</file>